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96F-38E2-4ED6-9632-EE1CDC39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6A7-7698-43C1-AA8E-DC53D31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63D-A5EE-4AD4-A3AC-9E71653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E71-C5DE-43CC-8E91-A7C5FFC9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771-7734-4EA1-BD4C-A5801B2B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6A9-1125-41FF-937A-DED75FC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EC3-5B81-429A-B3BB-3F44DB28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45D-C98C-48B6-B2A1-7E4441D7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FF9-DA0F-4F6F-8F97-751EBD96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CB7-FF4E-4F8B-8C27-DD166B8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C13-1747-4763-8933-ACDF83B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D9E-7721-4FAF-9CF0-3542F65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F - Janvier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D6C3-6A2E-44AD-A2E5-9461CBF3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949680"/>
            <a:ext cx="9144000" cy="78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04640"/>
            <a:ext cx="161928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eur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401760"/>
            <a:ext cx="161928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rice adjointe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33640"/>
            <a:ext cx="107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- Assistant(e) de dir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1108080"/>
            <a:ext cx="136836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- Assistant(e) de direction (suivi conventio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184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s affaires générales et immobiliè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056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u budget et du contrôle de ges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 l’exécution budgéta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>
            <a:off x="4571640" y="-949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684360" y="306864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Assistant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41980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898080"/>
            <a:ext cx="107928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 (clients / fournisseu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69908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571640" y="-949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2411280" y="4273560"/>
            <a:ext cx="90036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ef du pôle baux  et assur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188680"/>
            <a:ext cx="900360" cy="550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Chef du pôle achats et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13280" y="3464640"/>
            <a:ext cx="1296360" cy="614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ef du pô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atégie immobili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 trav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9840" y="5950080"/>
            <a:ext cx="108252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6" idx="1"/>
            <a:endCxn id="57" idx="1"/>
          </p:cNvCxnSpPr>
          <p:nvPr/>
        </p:nvCxnSpPr>
        <p:spPr>
          <a:xfrm flipV="1" rot="10800000">
            <a:off x="2213280" y="2302200"/>
            <a:ext cx="88920" cy="1469520"/>
          </a:xfrm>
          <a:prstGeom prst="bentConnector3">
            <a:avLst>
              <a:gd name="adj1" fmla="val 3617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1"/>
            <a:endCxn id="55" idx="1"/>
          </p:cNvCxnSpPr>
          <p:nvPr/>
        </p:nvCxnSpPr>
        <p:spPr>
          <a:xfrm flipH="1" flipV="1" rot="10800000">
            <a:off x="2301840" y="2302200"/>
            <a:ext cx="109800" cy="2241360"/>
          </a:xfrm>
          <a:prstGeom prst="bentConnector3">
            <a:avLst>
              <a:gd name="adj1" fmla="val -2118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6" idx="1"/>
            <a:endCxn id="56" idx="1"/>
          </p:cNvCxnSpPr>
          <p:nvPr/>
        </p:nvCxnSpPr>
        <p:spPr>
          <a:xfrm flipH="1" flipV="1" rot="10800000">
            <a:off x="2301840" y="2302560"/>
            <a:ext cx="109800" cy="3161880"/>
          </a:xfrm>
          <a:prstGeom prst="bentConnector3">
            <a:avLst>
              <a:gd name="adj1" fmla="val -2118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6" idx="1"/>
            <a:endCxn id="58" idx="1"/>
          </p:cNvCxnSpPr>
          <p:nvPr/>
        </p:nvCxnSpPr>
        <p:spPr>
          <a:xfrm flipH="1" flipV="1" rot="10800000">
            <a:off x="2301840" y="2302200"/>
            <a:ext cx="108360" cy="3882240"/>
          </a:xfrm>
          <a:prstGeom prst="bentConnector3">
            <a:avLst>
              <a:gd name="adj1" fmla="val -21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4284720" y="3213000"/>
            <a:ext cx="90000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Contrôleur de g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941720"/>
            <a:ext cx="122364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achats 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8200" y="4270320"/>
            <a:ext cx="122400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baux, travaux, assur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7" idx="1"/>
            <a:endCxn id="63" idx="1"/>
          </p:cNvCxnSpPr>
          <p:nvPr/>
        </p:nvCxnSpPr>
        <p:spPr>
          <a:xfrm flipH="1" flipV="1" rot="10800000">
            <a:off x="4030560" y="2302560"/>
            <a:ext cx="254520" cy="1145160"/>
          </a:xfrm>
          <a:prstGeom prst="bentConnector3">
            <a:avLst>
              <a:gd name="adj1" fmla="val -912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/>
          <p:nvPr/>
        </p:nvCxnSpPr>
        <p:spPr>
          <a:xfrm flipH="1" rot="16200000">
            <a:off x="4571640" y="-94932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719280" y="401760"/>
            <a:ext cx="161928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eur adjoint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9280" y="1157400"/>
            <a:ext cx="1619280" cy="53964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s marchés publ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9" idx="1"/>
            <a:endCxn id="50" idx="1"/>
          </p:cNvCxnSpPr>
          <p:nvPr/>
        </p:nvCxnSpPr>
        <p:spPr>
          <a:xfrm flipV="1" rot="10800000">
            <a:off x="684000" y="1427400"/>
            <a:ext cx="35280" cy="191124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9" idx="1"/>
            <a:endCxn id="52" idx="1"/>
          </p:cNvCxnSpPr>
          <p:nvPr/>
        </p:nvCxnSpPr>
        <p:spPr>
          <a:xfrm flipV="1" rot="10800000">
            <a:off x="684000" y="1427040"/>
            <a:ext cx="35280" cy="282240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9" idx="1"/>
            <a:endCxn id="53" idx="1"/>
          </p:cNvCxnSpPr>
          <p:nvPr/>
        </p:nvCxnSpPr>
        <p:spPr>
          <a:xfrm flipV="1" rot="10800000">
            <a:off x="684000" y="1427040"/>
            <a:ext cx="35280" cy="354168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69" idx="1"/>
            <a:endCxn id="51" idx="1"/>
          </p:cNvCxnSpPr>
          <p:nvPr/>
        </p:nvCxnSpPr>
        <p:spPr>
          <a:xfrm flipV="1" rot="10800000">
            <a:off x="684000" y="1427040"/>
            <a:ext cx="35280" cy="426240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44" idx="3"/>
            <a:endCxn id="42" idx="2"/>
          </p:cNvCxnSpPr>
          <p:nvPr/>
        </p:nvCxnSpPr>
        <p:spPr>
          <a:xfrm flipV="1">
            <a:off x="3706920" y="1123920"/>
            <a:ext cx="954360" cy="279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45" idx="1"/>
            <a:endCxn id="42" idx="2"/>
          </p:cNvCxnSpPr>
          <p:nvPr/>
        </p:nvCxnSpPr>
        <p:spPr>
          <a:xfrm rot="10800000">
            <a:off x="4660560" y="1123920"/>
            <a:ext cx="848160" cy="281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7485120" y="1844640"/>
            <a:ext cx="118728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FN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85120" y="2241720"/>
            <a:ext cx="119052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3933720"/>
            <a:ext cx="1079640" cy="3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,5 – Chef du pôle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1640" y="342900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1480" y="2781360"/>
            <a:ext cx="107928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Adjoint C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f du  pôle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85120" y="2602080"/>
            <a:ext cx="119052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48" idx="1"/>
            <a:endCxn id="78" idx="1"/>
          </p:cNvCxnSpPr>
          <p:nvPr/>
        </p:nvCxnSpPr>
        <p:spPr>
          <a:xfrm flipV="1" rot="10800000">
            <a:off x="5724000" y="2302560"/>
            <a:ext cx="72000" cy="1829160"/>
          </a:xfrm>
          <a:prstGeom prst="bentConnector3">
            <a:avLst>
              <a:gd name="adj1" fmla="val 4236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7451640" y="414972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4508640"/>
            <a:ext cx="122400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486720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51640" y="522756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51640" y="558792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51640" y="594828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 suivi budgé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3787920"/>
            <a:ext cx="12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épenses - 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5516640"/>
            <a:ext cx="12236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achats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9" idx="1"/>
            <a:endCxn id="78" idx="3"/>
          </p:cNvCxnSpPr>
          <p:nvPr/>
        </p:nvCxnSpPr>
        <p:spPr>
          <a:xfrm flipV="1" rot="10800000">
            <a:off x="6803640" y="3949200"/>
            <a:ext cx="648000" cy="182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3" idx="1"/>
            <a:endCxn id="78" idx="3"/>
          </p:cNvCxnSpPr>
          <p:nvPr/>
        </p:nvCxnSpPr>
        <p:spPr>
          <a:xfrm rot="10800000">
            <a:off x="6803640" y="4131000"/>
            <a:ext cx="648000" cy="18072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4" idx="1"/>
            <a:endCxn id="78" idx="3"/>
          </p:cNvCxnSpPr>
          <p:nvPr/>
        </p:nvCxnSpPr>
        <p:spPr>
          <a:xfrm rot="10800000">
            <a:off x="6803640" y="4131360"/>
            <a:ext cx="648000" cy="539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5" idx="1"/>
            <a:endCxn id="78" idx="3"/>
          </p:cNvCxnSpPr>
          <p:nvPr/>
        </p:nvCxnSpPr>
        <p:spPr>
          <a:xfrm rot="10800000">
            <a:off x="6803640" y="4131360"/>
            <a:ext cx="648000" cy="89820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1"/>
            <a:endCxn id="78" idx="3"/>
          </p:cNvCxnSpPr>
          <p:nvPr/>
        </p:nvCxnSpPr>
        <p:spPr>
          <a:xfrm rot="10800000">
            <a:off x="6803640" y="4131000"/>
            <a:ext cx="648000" cy="19792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1"/>
            <a:endCxn id="78" idx="3"/>
          </p:cNvCxnSpPr>
          <p:nvPr/>
        </p:nvCxnSpPr>
        <p:spPr>
          <a:xfrm rot="10800000">
            <a:off x="6803640" y="4131360"/>
            <a:ext cx="648000" cy="161892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64" idx="1"/>
            <a:endCxn id="56" idx="3"/>
          </p:cNvCxnSpPr>
          <p:nvPr/>
        </p:nvCxnSpPr>
        <p:spPr>
          <a:xfrm flipV="1" rot="10800000">
            <a:off x="3311280" y="5176080"/>
            <a:ext cx="468720" cy="288360"/>
          </a:xfrm>
          <a:prstGeom prst="bentConnector3">
            <a:avLst>
              <a:gd name="adj1" fmla="val 500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0" idx="1"/>
            <a:endCxn id="56" idx="3"/>
          </p:cNvCxnSpPr>
          <p:nvPr/>
        </p:nvCxnSpPr>
        <p:spPr>
          <a:xfrm rot="10800000">
            <a:off x="3311280" y="5464080"/>
            <a:ext cx="468720" cy="286920"/>
          </a:xfrm>
          <a:prstGeom prst="bentConnector3">
            <a:avLst>
              <a:gd name="adj1" fmla="val 500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6" idx="1"/>
            <a:endCxn id="78" idx="3"/>
          </p:cNvCxnSpPr>
          <p:nvPr/>
        </p:nvCxnSpPr>
        <p:spPr>
          <a:xfrm rot="10800000">
            <a:off x="6803640" y="4131000"/>
            <a:ext cx="648000" cy="125856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451640" y="3068640"/>
            <a:ext cx="12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78" idx="3"/>
            <a:endCxn id="100" idx="1"/>
          </p:cNvCxnSpPr>
          <p:nvPr/>
        </p:nvCxnSpPr>
        <p:spPr>
          <a:xfrm flipV="1">
            <a:off x="6804000" y="3230640"/>
            <a:ext cx="648000" cy="9010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0" idx="3"/>
            <a:endCxn id="81" idx="1"/>
          </p:cNvCxnSpPr>
          <p:nvPr/>
        </p:nvCxnSpPr>
        <p:spPr>
          <a:xfrm flipV="1">
            <a:off x="6800760" y="2764080"/>
            <a:ext cx="684720" cy="287640"/>
          </a:xfrm>
          <a:prstGeom prst="bentConnector3">
            <a:avLst>
              <a:gd name="adj1" fmla="val 500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78" idx="3"/>
            <a:endCxn id="79" idx="1"/>
          </p:cNvCxnSpPr>
          <p:nvPr/>
        </p:nvCxnSpPr>
        <p:spPr>
          <a:xfrm flipV="1">
            <a:off x="6804000" y="3591000"/>
            <a:ext cx="648000" cy="5407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46" idx="0"/>
            <a:endCxn id="42" idx="2"/>
          </p:cNvCxnSpPr>
          <p:nvPr/>
        </p:nvCxnSpPr>
        <p:spPr>
          <a:xfrm flipH="1" flipV="1" rot="5400000">
            <a:off x="3386160" y="668880"/>
            <a:ext cx="819720" cy="1730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 flipH="1" rot="16200000">
            <a:off x="4571640" y="-94932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57" idx="3"/>
            <a:endCxn id="65" idx="1"/>
          </p:cNvCxnSpPr>
          <p:nvPr/>
        </p:nvCxnSpPr>
        <p:spPr>
          <a:xfrm>
            <a:off x="3509640" y="3771720"/>
            <a:ext cx="268920" cy="768960"/>
          </a:xfrm>
          <a:prstGeom prst="bentConnector5">
            <a:avLst>
              <a:gd name="adj1" fmla="val 642091"/>
              <a:gd name="adj2" fmla="val 165199"/>
              <a:gd name="adj3" fmla="val 136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55" idx="3"/>
            <a:endCxn id="65" idx="1"/>
          </p:cNvCxnSpPr>
          <p:nvPr/>
        </p:nvCxnSpPr>
        <p:spPr>
          <a:xfrm flipV="1">
            <a:off x="3311640" y="4540320"/>
            <a:ext cx="466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286160" y="3716280"/>
            <a:ext cx="900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argé d’ét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47" idx="1"/>
            <a:endCxn id="108" idx="1"/>
          </p:cNvCxnSpPr>
          <p:nvPr/>
        </p:nvCxnSpPr>
        <p:spPr>
          <a:xfrm flipH="1" flipV="1" rot="10800000">
            <a:off x="4030560" y="2302200"/>
            <a:ext cx="255960" cy="1648080"/>
          </a:xfrm>
          <a:prstGeom prst="bentConnector3">
            <a:avLst>
              <a:gd name="adj1" fmla="val -9070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68" idx="3"/>
            <a:endCxn id="42" idx="1"/>
          </p:cNvCxnSpPr>
          <p:nvPr/>
        </p:nvCxnSpPr>
        <p:spPr>
          <a:xfrm>
            <a:off x="2338560" y="761040"/>
            <a:ext cx="15130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42" idx="3"/>
            <a:endCxn id="43" idx="1"/>
          </p:cNvCxnSpPr>
          <p:nvPr/>
        </p:nvCxnSpPr>
        <p:spPr>
          <a:xfrm flipV="1">
            <a:off x="5470560" y="761040"/>
            <a:ext cx="14781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42" idx="2"/>
            <a:endCxn id="48" idx="0"/>
          </p:cNvCxnSpPr>
          <p:nvPr/>
        </p:nvCxnSpPr>
        <p:spPr>
          <a:xfrm flipH="1" rot="16200000">
            <a:off x="5133240" y="651240"/>
            <a:ext cx="819720" cy="1764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42" idx="2"/>
            <a:endCxn id="47" idx="0"/>
          </p:cNvCxnSpPr>
          <p:nvPr/>
        </p:nvCxnSpPr>
        <p:spPr>
          <a:xfrm flipH="1">
            <a:off x="4659840" y="1123920"/>
            <a:ext cx="1440" cy="81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48" idx="1"/>
            <a:endCxn id="80" idx="1"/>
          </p:cNvCxnSpPr>
          <p:nvPr/>
        </p:nvCxnSpPr>
        <p:spPr>
          <a:xfrm flipV="1" rot="10800000">
            <a:off x="5721120" y="2302560"/>
            <a:ext cx="74880" cy="749160"/>
          </a:xfrm>
          <a:prstGeom prst="bentConnector3">
            <a:avLst>
              <a:gd name="adj1" fmla="val 4106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77" idx="1"/>
            <a:endCxn id="80" idx="3"/>
          </p:cNvCxnSpPr>
          <p:nvPr/>
        </p:nvCxnSpPr>
        <p:spPr>
          <a:xfrm flipV="1" rot="10800000">
            <a:off x="6800400" y="2403360"/>
            <a:ext cx="684720" cy="64800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48" idx="3"/>
            <a:endCxn id="76" idx="1"/>
          </p:cNvCxnSpPr>
          <p:nvPr/>
        </p:nvCxnSpPr>
        <p:spPr>
          <a:xfrm flipV="1">
            <a:off x="7054920" y="2006640"/>
            <a:ext cx="4305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68" idx="3"/>
            <a:endCxn id="42" idx="1"/>
          </p:cNvCxnSpPr>
          <p:nvPr/>
        </p:nvCxnSpPr>
        <p:spPr>
          <a:xfrm>
            <a:off x="2338560" y="761040"/>
            <a:ext cx="15130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836640"/>
          <a:ext cx="8207280" cy="52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20728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5:07:18Z</dcterms:created>
  <dc:creator>TOTO</dc:creator>
  <dc:description/>
  <dc:language>en-US</dc:language>
  <cp:lastModifiedBy>Marie-Jo CREVEL</cp:lastModifiedBy>
  <dcterms:modified xsi:type="dcterms:W3CDTF">2008-01-18T16:42:50Z</dcterms:modified>
  <cp:revision>55</cp:revision>
  <dc:subject/>
  <dc:title>Diapositive 1</dc:title>
</cp:coreProperties>
</file>